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314-C3BB-4566-9B4F-5F229625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3D4-7B51-47BE-B403-0F7C7FC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6E5-489B-4859-853F-1797E351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4F7-ADAD-41BF-BE1D-6A97ECD1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BFA-3761-4552-BBE9-A6258E08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B469-D9BA-4925-8DB9-BE36F79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9944-327F-4965-B602-65BC03E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7EE6-4871-4DA3-855D-FFF7012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F97-C350-4FF8-A37D-858A91C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1934-8B47-4B72-AA03-985D8A0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04B7-E553-481C-9D94-CD9FECA4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DAD-A90B-424F-A25B-01CD9AD7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763-4EA7-464E-9034-83109B7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40E8-9786-4BC6-B300-A207282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16F1-A1F2-45BD-8363-9E0A64BF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2B06-2895-4486-BD9F-71EED8C6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AE0E-6081-4B6C-A08C-814F74F1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F051-9404-4CD1-B83F-EA042196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CF77-CE94-4812-98BD-5DBF1D8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4FCD-5394-4BA5-A4D0-43429CA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CA48-3DD6-481E-934D-42B00223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244D-C65C-4B03-8AA2-F6A40250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556-1332-461C-84CA-467B4AE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EC5A-66CC-4EE6-82E7-E0AEC57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5332-9404-41DD-B22E-1816C9E2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2766-9E0D-4AE4-8BC9-5ADFBB9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3267-E02C-4B02-A80D-08E019A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7E23-7CE5-40EA-AA06-446B3644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777A-EEB0-4EBB-AC7F-8F610F86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319E-E11F-4AD0-8EA5-08D5EEF1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E079-AFFA-4091-A672-1178B65E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918B-8EDE-4119-8D2A-8580ACDE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B81D-D5B0-4EA2-A2F1-08128AC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AB9-9740-4BD8-BFF4-3A990048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A6AC-1AF4-47D0-98EF-4E0BBE37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5856-5A10-4025-802A-27C1E369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D372-9ACF-4801-973D-7C870580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A28CB-C201-4886-BA13-44664B2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D384-8FAD-454B-8C12-8D41B778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ED04-2AC3-4A0C-B5A0-94FAD9E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2993-3508-46EA-8B5B-9F8BEC2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82AF-8984-4A1A-B37E-D5334ECF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8CCD-0542-498B-A625-FFDD30DE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93B-C046-4E44-8AF6-222DF34C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97A-69AF-418B-81A6-5DB68EB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F42-D72D-4782-8A3E-F8ADB44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CF2-89DD-4854-98A6-C8523CF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2C5-063C-4996-BEAE-1DEB164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0FD-4D8D-4BD7-A679-CC8E808754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5CB-8D12-40EB-BC14-2A8783B385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88A-AD34-4613-BB76-7F9B5E84D22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DA4A-3753-4ABA-BAC4-F3C394F7FB1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589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 помощью координат нарисуйте фигур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3); (0; 3); (-3; 2); (-5;2); (-7;4); (-8;3); (-7;1); (-8;-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-7;-2); (-5;0); (-1;-2); (0;-4); (2;-4); (3;-2); (5;-2); (7;0); (5;2); (3;3); (2;4); (-3;4); (-4;2); глаз(5;0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8" descr="BD13772_"/>
          <p:cNvPicPr/>
          <p:nvPr/>
        </p:nvPicPr>
        <p:blipFill>
          <a:blip r:embed="rId1"/>
          <a:stretch/>
        </p:blipFill>
        <p:spPr>
          <a:xfrm>
            <a:off x="214200" y="428616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Рисунок12"/>
          <p:cNvPicPr/>
          <p:nvPr/>
        </p:nvPicPr>
        <p:blipFill>
          <a:blip r:embed="rId2"/>
          <a:stretch/>
        </p:blipFill>
        <p:spPr>
          <a:xfrm>
            <a:off x="2857680" y="3286080"/>
            <a:ext cx="5638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0); (1; 2); (-1;2); (3;5); (1;7); (-3;6); (-5;7); (-3;4); (-6;3); (-3;3);    (-5;2); (-5;-2); (-2;-3); (-4;-4); (1;-4); (3;-3); (6;1); (3;0); глаз (-1;5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2" descr="J0213513"/>
          <p:cNvPicPr/>
          <p:nvPr/>
        </p:nvPicPr>
        <p:blipFill>
          <a:blip r:embed="rId1"/>
          <a:stretch/>
        </p:blipFill>
        <p:spPr>
          <a:xfrm>
            <a:off x="642960" y="5214960"/>
            <a:ext cx="17524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Рисунок13"/>
          <p:cNvPicPr/>
          <p:nvPr/>
        </p:nvPicPr>
        <p:blipFill>
          <a:blip r:embed="rId2"/>
          <a:stretch/>
        </p:blipFill>
        <p:spPr>
          <a:xfrm>
            <a:off x="2928960" y="2214720"/>
            <a:ext cx="55627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519</cp:lastModifiedBy>
  <dcterms:modified xsi:type="dcterms:W3CDTF">2010-05-28T04:52:27Z</dcterms:modified>
  <cp:revision>2</cp:revision>
  <dc:subject/>
  <dc:title>Фигуры по координатам</dc:title>
</cp:coreProperties>
</file>